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64726"/>
        <c:axId val="79333281"/>
      </c:barChart>
      <c:catAx>
        <c:axId val="59164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33281"/>
        <c:crosses val="autoZero"/>
        <c:auto val="1"/>
        <c:lblAlgn val="ctr"/>
        <c:lblOffset val="100"/>
        <c:noMultiLvlLbl val="0"/>
      </c:catAx>
      <c:valAx>
        <c:axId val="793332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64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CA8-C6EB-443B-ACC2-BE003E87C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81D-35CF-4C2B-8906-D83F930C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97B-42DF-4B44-9016-274BA2A6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377-A6A9-4575-9A6E-D8A09637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B933-A22E-4C22-94C3-C5936B07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3FE4-6968-4673-8EF4-67A2CBB6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6CDB-B471-4AA8-928B-757B49BD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52E-60BA-4517-800F-8B6E7BCA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A01-9939-412E-A267-4BF66EF6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789-590A-4BEF-98DB-CE13E28E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D715-703A-431A-AABD-FA97ACCA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9EE4-327C-4C7C-AE0F-EB005910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554FA-EAE3-4E63-9594-F67C0AECE0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