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40127"/>
        <c:axId val="78885601"/>
      </c:barChart>
      <c:catAx>
        <c:axId val="78240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5601"/>
        <c:crosses val="autoZero"/>
        <c:auto val="1"/>
        <c:lblAlgn val="ctr"/>
        <c:lblOffset val="100"/>
        <c:noMultiLvlLbl val="0"/>
      </c:catAx>
      <c:valAx>
        <c:axId val="78885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0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DFE-8FC0-4833-AD1E-8038C392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E15-BC30-4AE9-9754-DC4DA02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D7E-BA32-46E1-81A9-82E2372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C0A-4928-4772-A676-AC8D8B99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27C-81D0-4E86-961D-A842C5C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91-1092-4EA7-B92E-F0523BDB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270-DC12-4859-BAEE-725A184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05C-7E15-4321-932B-411291C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0A6-5BC0-41CE-9913-26CC3A6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26E-CBAD-426F-BCFE-9944FD8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EAC-A259-4122-9119-262503F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3D8-313A-4F16-9ED1-4BF3F96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52E2A-BF58-4CD2-89D9-F2338213E0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